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9.jpeg" ContentType="image/jpeg"/>
  <Override PartName="/ppt/media/image14.jpeg" ContentType="image/jpeg"/>
  <Override PartName="/ppt/media/image6.jpeg" ContentType="image/jpeg"/>
  <Override PartName="/ppt/media/image50.jpeg" ContentType="image/jpeg"/>
  <Override PartName="/ppt/media/image37.jpeg" ContentType="image/jpeg"/>
  <Override PartName="/ppt/media/image67.png" ContentType="image/pn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15.jpeg" ContentType="image/jpeg"/>
  <Override PartName="/ppt/media/image18.jpeg" ContentType="image/jpeg"/>
  <Override PartName="/ppt/media/image19.wmf" ContentType="image/x-wmf"/>
  <Override PartName="/ppt/media/image66.jpeg" ContentType="image/jpeg"/>
  <Override PartName="/ppt/media/image9.jpeg" ContentType="image/jpeg"/>
  <Override PartName="/ppt/media/image21.jpeg" ContentType="image/jpeg"/>
  <Override PartName="/ppt/media/image29.png" ContentType="image/png"/>
  <Override PartName="/ppt/media/image64.jpeg" ContentType="image/jpeg"/>
  <Override PartName="/ppt/media/image3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3.png" ContentType="image/png"/>
  <Override PartName="/ppt/media/image16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2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.jpeg" ContentType="image/jpeg"/>
  <Override PartName="/ppt/media/image41.png" ContentType="image/png"/>
  <Override PartName="/ppt/media/image45.jpeg" ContentType="image/jpeg"/>
  <Override PartName="/ppt/media/image46.png" ContentType="image/png"/>
  <Override PartName="/ppt/media/image68.png" ContentType="image/png"/>
  <Override PartName="/ppt/media/image47.jpeg" ContentType="image/jpeg"/>
  <Override PartName="/ppt/media/image4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3011-2B15-49F7-97F9-001F6EE32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98B0-E25C-42FD-BD48-BAF5A8E97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D1C0-673D-42A3-AB17-701422154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A79F-D0A0-45C5-87EC-FD63D149B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5B99-F501-40CF-AF5D-83ED6DB7EB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065E-CDBF-46A4-8392-5551A7F010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087E-EF66-4D38-95F3-CEEB15469E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6F7B-59A1-45F5-BF82-0A08B8A729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953B-6BF2-4E60-BC14-DDFC741D69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9CE5-C94B-48C1-9052-039DAAC2D0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8321-B509-4F90-9BD6-A95984461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3A0F-E271-4309-A99F-17D17701D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BD73-C82D-4492-A891-8CA7CE413F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4FE3-6F78-4158-8544-9AC610E42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8ED3-D2F9-4A39-A83A-66FF63A291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81CB-5BD6-4B93-8D86-22746C6B7E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FC77-02A4-47C5-84D1-E4514B979E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9D4-05B8-4F4B-B44C-BAC4A538AB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D9A-51D3-4004-81D8-012CBAE8A1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2C4-9CA0-403D-BF2D-F1C0E2920A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D1D-ED07-4655-8EAC-3286043980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41E-2CEA-4606-A7D6-9430B920C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FA82-A3DF-4076-B650-3A7DC9C3AA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299-04AE-4889-BCEF-F9F4CF1999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2FD-FED2-43CC-A231-B3E8EF902A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76D-E549-43B1-8FF6-9A3EC12DF0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615-0A7A-4CF0-B4C1-315CA8AEE5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2A1-BA99-4F87-BCAC-1ECBE2EA38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4B7-90E9-4E5D-9934-E1E80A8E05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479-12A6-4DC2-84A6-D298757210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DC526-384F-41FD-B0AC-E3CAF0E0F5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2339C-78AF-456A-B7F1-D0C8AF8F7E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5F0FD-4201-4D4C-9FF3-9B90AB87B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F6D5-EBCF-4F42-9987-10A2DF6D2B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956BA-4D8E-44F9-9650-0B6E46AD99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9831C-5029-4A1D-B785-79E2ACB74E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EB049-C6D3-4C27-BD47-4C906FC73B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FC036-879D-4B67-8DC1-F8231D0717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D0E23-28DB-4C35-8A6F-A5ECC24BD8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D1C49-3AF5-489E-A5A0-A3C3BA3806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342B8-E4A6-4078-BFD1-14918FBE3B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D2571-ED6E-49F1-8835-4E9F8F36B0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D439E-5E56-43D1-9519-B2DC75B92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B0CC-1B8E-46E0-B947-1113F37D4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6719-A2F0-4840-92EE-B5027A0C3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CDF2-67AF-421B-A4D3-3CD0DAAB2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E32B-9059-4BCC-A682-38AF39F2B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B529-9BEF-4ED9-B16A-EEE6326BA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D2023-DD36-49B1-ACCF-8C04111A21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92696-5FD9-4761-8D8B-BBBD9D6281A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4EC52-A69E-4951-9875-A5FD1EEE0BA0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29D96-AD96-4A80-BCF1-E9BB3F1F893E}" type="slidenum"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DAN MUSE, M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BLUNT THORACIC AND ABDOMINAL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7162920" y="4838760"/>
            <a:ext cx="75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Classified as a supraglottic tube or one that is above the vocal 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llows for a blind insertion and secure the airway so that the person can receive oxygen and be ventilated (exchange oxygen for carbon dioxid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sertion only takes seconds and virtually fail saf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(facial, neck and chest) trau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KING TUBE VIDE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ttps://www.youtube.com/watch?v=BELokurs5f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3" name="Tips from Tom_ King LTS-D Detailed Overview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NEEDLE TRACHEOST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77840" y="1628640"/>
            <a:ext cx="3825720" cy="4572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2"/>
          <a:stretch/>
        </p:blipFill>
        <p:spPr>
          <a:xfrm>
            <a:off x="5154480" y="3978360"/>
            <a:ext cx="38228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77840" y="1587600"/>
            <a:ext cx="3784680" cy="4583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4705200" y="3112920"/>
            <a:ext cx="42721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(facial, neck and chest) trau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</a:t>
            </a: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br>
              <a:rPr sz="2400"/>
            </a:b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https://www.youtube.com/watch?v=NmHxhpMfD4c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37" name="TEST VIDEO - Cricothyrotomy Landmarks.mp4" descr=""/>
          <p:cNvPicPr/>
          <p:nvPr/>
        </p:nvPicPr>
        <p:blipFill>
          <a:blip r:embed="rId1"/>
          <a:stretch/>
        </p:blipFill>
        <p:spPr>
          <a:xfrm>
            <a:off x="1892160" y="1719360"/>
            <a:ext cx="5381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https://www.youtube.com/watch?v=aPiQA2XKkc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39" name="Needle Cricothyrotomy.mp4" descr=""/>
          <p:cNvPicPr/>
          <p:nvPr/>
        </p:nvPicPr>
        <p:blipFill>
          <a:blip r:embed="rId1"/>
          <a:stretch/>
        </p:blipFill>
        <p:spPr>
          <a:xfrm>
            <a:off x="1628640" y="1719360"/>
            <a:ext cx="59086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1368360" y="280656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NEEDLE THORACOT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731880" y="2925720"/>
            <a:ext cx="6324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OTOR VEHICLE COLLISIONS THE MAJOR CAUSE OF BLUNT THORACIC INJ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HORAC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301680" y="152712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5129280" y="1527120"/>
            <a:ext cx="3720960" cy="218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3"/>
          <a:stretch/>
        </p:blipFill>
        <p:spPr>
          <a:xfrm>
            <a:off x="2828880" y="408456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HORAC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Trauma to the chest and 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suspected tension pneumothor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NEEDLE THROACOSTOM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co9_RLN78I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0" name="Tension Pneumothorax and Needle Thoracostomy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NEEDLE THROACOSTOM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UvHJ4pjNh2Q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2" name="How To_ Needle Decompression of the Chest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O NO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CDE: AIRWAY, BREATHING, CIRCULATION, DEFICIT (NEURO), EXPOSURE (UND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CONDARY IF TIME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ON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 WASTE TIME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Routine Patient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Control/stop any identified life-threatening hemorrhage (direct pressure, tournique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Ensure cervical spine stabilization*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Determine presence or absence of significant neurologic signs and symptoms:  decreased motor function, decreased sensory function, priapism, and loss of bladder/bow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Routine Patient Care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</a:t>
            </a:r>
            <a:r>
              <a:rPr b="1" lang="en-US" sz="2400" spc="-1" strike="noStrike">
                <a:solidFill>
                  <a:srgbClr val="ff3333"/>
                </a:solidFill>
                <a:latin typeface="Franklin Gothic Medium"/>
              </a:rPr>
              <a:t>Long backboards are NOT considered standard of care in most cases of potential spinal injury. </a:t>
            </a: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Instead, use spinal motion restriction with a cervical collar and cot in most cases. Note that there are exceptions, such as a patient with a potential spinal injury who cannot be log-rolled while being transported and may be at risk of a compromised air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Spinal Immobiliz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. Establish manual c-spine stabilization in the position that the patient is f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2. Assess for correct size and properly apply a cervical col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3. Move patient from the position found to the location of the ambulance stretcher utilizing a device such as a scoop stretcher, long spine board, or if necessary, by having the patient stand and pivot to the stretcher. DO NOT permit the patient to struggle to their feet from a supine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4. Position patient on the ambulance stretc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pinal Immobilization Procedure (continu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5. Remove scoop or log roll patient off long spine board or other device (if such device was utiliz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6. A blanket roll or blocks and tape attached to the stretcher may be used to minimize lateral movement of head during trans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7. Once on the ambulance stretcher, instruct patient to lie sti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8. The head of the stretcher may be elevated 20-30 degrees in a position of comf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pinal Immobilization Procedure (continu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9. Secure cross stretcher straps and over-the-shoulder belts firm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0. Utilize a SLIDE BOARD at the destination to move the patient smoothly to the hospital stretc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1. Ensure appropriate documentation of procedure in patient car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FACTORS ASSOCIATED WITH SIGNIFICANT INJU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igh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Not wearing a seat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Extensive vehicula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teering wheel defor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lective Spinal Immobilization Procedu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MEDICAL CONTROL O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distracting inju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change in mental status; head trauma, metabolic, drugs/alcoh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rmal neurologic ex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neck pain or tender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t over 65 years 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3333"/>
                </a:solidFill>
                <a:latin typeface="Franklin Gothic Medium"/>
              </a:rPr>
              <a:t>ONLY THEN CAN YOU CLEAR THE CERVICAL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Routine Pati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· Provide appropriate management for identified thoracic inju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PEN PNEUMOTHORA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mmediately apply an occlusive dressing sealing 3 s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onitor patient closely for evidence of tension pneumothor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274680" y="1811160"/>
            <a:ext cx="840744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ENSION PNEUMOTHORAX: (Respiratory distress or apnea, Difficult to ventilate with bag, distended neck veins, unilateral decreased or absent breath sounds, tracheal deviation away from the side without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ound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f present following closure of open pneumothorax, release occlusive dressing temporar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FLAIL CHEST: (paradoxical movement of portion of chest w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osition patient with injured side down, unless contraindic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rovide manual stabilization of the flail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NOTE: Assisted positive pressure ventilations using a BVM device may be indicated and may also serve as an “internal splinting” of the flail segment due to lung expan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Control/stop any identified life threatening hemorrhage (direct pressure,tourniquets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Impaled Objects:  Secure in place with a bulky dres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Open chest wound:  Cover with an occlusive dressing, sealed on 3 sides, or use a commercial device; if the patient’s condition deteriorates, remove the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omentarily, then reapp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Flail segment with paradoxical movement and in respiratory distress:  Consider positive-pressure ventilation.  Do not splint the ches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EMT-INTERMEDIATE / ADVANCED EMT STANDING 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Provide advanced airway management only if patient is not adequately oxygenating or ventilating and not corrected by BV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PARAMEDIC STANDING 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Needle chest decompression if indicated (2nd intercostal space, midclavicular line with at least 3.25 inch, 14g angioca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WO LARGE BORE IV</a:t>
            </a:r>
            <a:r>
              <a:rPr b="0" lang="ja-JP" sz="28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 IN TRAUMA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GGRESSIVE FLUID RESUSCITATION PUSHING FOR NORMAL BP IS CONTROVER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RE IS THE THOUGHT THAT THIS CAN CAUSE CONTINUED BLEEDING, DILUTION OF BLOOD AND THE POSSIBILITY OF DISRUPTING CLOTS THAT ALREADY HAVE FO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LUID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EAN ARTERIAL PRESSURE (M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YSTOLIC + (2 X DIASTOLIC) /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Eg: 120 + (2 X 80) EQUALS 280/3 = 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ＭＳ Ｐゴシック"/>
              </a:rPr>
              <a:t>MAP OF 65 OR GREATER EQUALS CEREBRAL PER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LUID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OINT OF ENT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llow the state protocols for the appropriate destination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egion 5 has only one level 3 trauma center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at is not the highest level center and “real” trauma should head to Region 4 level one trauma centers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3"/>
          <p:cNvSpPr/>
          <p:nvPr/>
        </p:nvSpPr>
        <p:spPr>
          <a:xfrm>
            <a:off x="457200" y="2666880"/>
            <a:ext cx="48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Mechanism-of -Injury Criteri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s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Adults &gt; 20 feet (one story is equal to 10 fe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Children &gt; 10 feet or two or three times the height of the chil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-Risk auto crashe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Death in same passenger compart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Intrusion &gt; 12 inches occupant site, &gt;18 inches any site •Ejection (partial or complete) from vehic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Vehicle telemetry data consistent with high risk of inju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 vs. pedestrian/bicycle thrown/run over or with significant (&gt;20 mph) impact •Motorcycle crash &gt; 20 mp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4"/>
          <p:cNvSpPr/>
          <p:nvPr/>
        </p:nvSpPr>
        <p:spPr>
          <a:xfrm>
            <a:off x="6858000" y="3200400"/>
            <a:ext cx="1676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to closest appropriate Trauma Center** which may not be the highest level Trauma Center**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ight Arrow 5"/>
          <p:cNvSpPr/>
          <p:nvPr/>
        </p:nvSpPr>
        <p:spPr>
          <a:xfrm>
            <a:off x="5562720" y="3581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5783400" y="32385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8"/>
          <p:cNvSpPr/>
          <p:nvPr/>
        </p:nvSpPr>
        <p:spPr>
          <a:xfrm>
            <a:off x="685800" y="914400"/>
            <a:ext cx="763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WIDE TREATMENT POINT OF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ULTIPLE STRUCTURES ARE AT RI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ibs and other boney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ardiovascular; heart, aorta, major arteries    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ulmonary structures; lungs, trachea, bronchial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aphra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26960" y="1752480"/>
            <a:ext cx="339084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5300640" y="1739880"/>
            <a:ext cx="3657600" cy="222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722680" y="3629160"/>
            <a:ext cx="4222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683240" y="3139920"/>
            <a:ext cx="425448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230040" y="1905120"/>
            <a:ext cx="39452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060880" y="1550880"/>
            <a:ext cx="3997440" cy="3657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39560" y="1693800"/>
            <a:ext cx="36910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82480" y="2179800"/>
            <a:ext cx="3264120" cy="2489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396040" y="2550960"/>
            <a:ext cx="358128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ade up of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Sternu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ribs, scapula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intercostal nerves and arterie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The chest w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on the inside, is lined with pleur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and on the outside muscle and ski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122480" y="396720"/>
            <a:ext cx="6350040" cy="590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 = MASS X 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The greater the mass and/or the greater the acceleration, the greater the potential for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</a:t>
            </a: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Primary function in trauma is protection of the organs inside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arely are isolated chest wall injuries life threat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ftentimes associated with corresponding trauma inside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ru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Lac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FRAC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solated rib fractures: may result in pain or secondary injur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ib fractures are capable  of acting like a knife and stabbing the structures in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lail chest: three or more ribs which are broken in two places.  The segment will cause a paradoxical chest wal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006560" y="274680"/>
            <a:ext cx="7223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IB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23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182520" y="126684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4"/>
          <a:stretch/>
        </p:blipFill>
        <p:spPr>
          <a:xfrm>
            <a:off x="3271680" y="3535200"/>
            <a:ext cx="55911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974880" y="274680"/>
            <a:ext cx="725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IB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Object 23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4948200" y="13176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4"/>
          <a:stretch/>
        </p:blipFill>
        <p:spPr>
          <a:xfrm>
            <a:off x="488880" y="3278160"/>
            <a:ext cx="4122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esults when air is displaced within the pleural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chest wall trauma and rib fra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PLE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leura is a tough material that comes in two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inside sheet covers the lu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outside sheet runs over the inside of the ri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PLE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leura reduces friction when the lungs expand and collap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ecause there is two parts to it, THERE IS ALSO A POTENTI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ir and blood can get trapped in thi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905040" y="274680"/>
            <a:ext cx="7324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17440" y="127944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4378320" y="27129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o a rib breaks</a:t>
            </a:r>
            <a:r>
              <a:rPr b="0" lang="is-IS" sz="3200" spc="-1" strike="noStrike">
                <a:solidFill>
                  <a:srgbClr val="534949"/>
                </a:solidFill>
                <a:latin typeface="Franklin Gothic Medium"/>
              </a:rPr>
              <a:t>….there is a stabbing or a shooting, or a be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is-IS" sz="3200" spc="-1" strike="noStrike">
                <a:solidFill>
                  <a:srgbClr val="534949"/>
                </a:solidFill>
                <a:latin typeface="Franklin Gothic Medium"/>
              </a:rPr>
              <a:t>Now there is potential for air or blood to get into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301680" y="1628640"/>
            <a:ext cx="4451400" cy="2514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5511960" y="3718080"/>
            <a:ext cx="3632040" cy="2234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3444840" y="4673520"/>
            <a:ext cx="306396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4"/>
          <a:stretch/>
        </p:blipFill>
        <p:spPr>
          <a:xfrm>
            <a:off x="5367240" y="1527120"/>
            <a:ext cx="309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5"/>
          <a:stretch/>
        </p:blipFill>
        <p:spPr>
          <a:xfrm>
            <a:off x="3382920" y="22654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6"/>
          <a:stretch/>
        </p:blipFill>
        <p:spPr>
          <a:xfrm>
            <a:off x="244440" y="423216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With each breath, air goes into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ut when the person exhales, the lung collapse because of the build up of pressure in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is causes the lung to become smaller and smaller with each breath and exha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833400" y="274680"/>
            <a:ext cx="73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015920" y="1609560"/>
            <a:ext cx="7031160" cy="471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833400" y="274680"/>
            <a:ext cx="73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5286240" y="133524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216000" y="3621240"/>
            <a:ext cx="5289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905040" y="274680"/>
            <a:ext cx="7324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17440" y="127944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378320" y="27129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380880" y="35568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TENSION PNEUMOTHORAX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BjbKEAQFG6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62" name="Tension Pneumothorax.mp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29640" cy="440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ccurs when the pleural space continues to fill with displaced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is results in compression of the lung and vess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an cause shifting over into the other cavity and result in compression of the trachea and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314360" y="2346480"/>
            <a:ext cx="2654280" cy="3073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5232240" y="1784520"/>
            <a:ext cx="2997360" cy="37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905040" y="274680"/>
            <a:ext cx="732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20680" y="1509840"/>
            <a:ext cx="4025880" cy="2019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4297320" y="2695680"/>
            <a:ext cx="4629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812880" y="274680"/>
            <a:ext cx="74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51360" cy="52578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5488560" y="335268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SIDE IS 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5409360" y="2362320"/>
            <a:ext cx="18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RACHEAL DEV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 THE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5265720" y="4800600"/>
            <a:ext cx="19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EART PUSHE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 THE OPPOSITE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371600" y="31240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LUNG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Straight Arrow Connector 6"/>
          <p:cNvCxnSpPr>
            <a:stCxn id="274" idx="1"/>
          </p:cNvCxnSpPr>
          <p:nvPr/>
        </p:nvCxnSpPr>
        <p:spPr>
          <a:xfrm flipH="1" flipV="1">
            <a:off x="3504600" y="2590560"/>
            <a:ext cx="1905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8" name="Straight Arrow Connector 10"/>
          <p:cNvCxnSpPr>
            <a:stCxn id="275" idx="1"/>
          </p:cNvCxnSpPr>
          <p:nvPr/>
        </p:nvCxnSpPr>
        <p:spPr>
          <a:xfrm flipH="1" flipV="1">
            <a:off x="4190400" y="5028840"/>
            <a:ext cx="10674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812880" y="274680"/>
            <a:ext cx="74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809720" y="176544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087640" y="2141640"/>
            <a:ext cx="499896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ccurs when blood accumulates in the pleural sp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ften associated with rib 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771480" y="274680"/>
            <a:ext cx="7458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714680" y="1143000"/>
            <a:ext cx="57150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86" name="Content Placeholder 3" descr=""/>
          <p:cNvPicPr/>
          <p:nvPr/>
        </p:nvPicPr>
        <p:blipFill>
          <a:blip r:embed="rId1"/>
          <a:stretch/>
        </p:blipFill>
        <p:spPr>
          <a:xfrm>
            <a:off x="2043000" y="2016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ORTIC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466560" y="1527120"/>
            <a:ext cx="8217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high energy thoracic injuries oftentimes with rapid 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e rapid deceleration results in a shearing effect on the aorta which is f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ORTIC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ne of the major causes of instant blunt trauma dea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high rib fractures i.e. 1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, 2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and 3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rd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ri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hest x ray may show widened mediastin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731880" y="274680"/>
            <a:ext cx="7497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ORTIC T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25360" y="1125360"/>
            <a:ext cx="5087880" cy="3200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4851360" y="3152880"/>
            <a:ext cx="4105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63640" y="274680"/>
            <a:ext cx="73659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 CHEST X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2328840" y="128592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06440" y="355680"/>
            <a:ext cx="8381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AORTIC RUPTU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ttps://www.youtube.com/watch?v=hY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98" name="Traumatic Aortic Rupture - Simplified Pathophysiology.mp4" descr=""/>
          <p:cNvPicPr/>
          <p:nvPr/>
        </p:nvPicPr>
        <p:blipFill>
          <a:blip r:embed="rId1"/>
          <a:stretch/>
        </p:blipFill>
        <p:spPr>
          <a:xfrm>
            <a:off x="3341520" y="1719360"/>
            <a:ext cx="2482920" cy="44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THORACIC CONT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ay result is a contusion to the chest wall, cardiac contusion or pulmonary cont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ULMONARY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esults in a 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“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ruise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”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to the 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Will cause shortness of breath since that part of the lung can no longer efficiently exchange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289240" y="2048040"/>
            <a:ext cx="45291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ULMONARY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660240" y="5638680"/>
            <a:ext cx="756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TE THE AIR IN THE SOFT TISSUE ON THE LEF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WHEN PALPATED THAT IS CREPI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981080" y="1590840"/>
            <a:ext cx="51721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Typically associated with thoracic contusion in the region of the hea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Concern is that there may be an arrhyth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Most common finding is sinus tachycar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May have bump in cp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There is still a debate of how real an entity this 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ARDIAC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esults from blood spilling within the pericardi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is will compress the heart and result in hypoten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RICARDIAL TAMPON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ay result from intrathoracic or intra abdominal inju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ressure changes to either cavity may cause a tear to the diaphrag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tabbing injuries such as rib fractures can tear the diaphrag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 large tear can result in bowel migrating into the chest ca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On exam (and on x ray), this can be confused with a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905200" y="155736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ABDOMINAL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716292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EPIDEM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VC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: Account for 75% when pedestrian versus auto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OWS TO THE ABDOMEN: 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LLS: 6%-9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OST COMMON INJURED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pl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i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ollow viscous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ECHANISM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NCREASE IN INTRAABDOMINAL PRESSURE eg; seatbelt pushing in when the shoulder harness is not w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UTWARD FORCE eg; handlebar, bat, steering wheel…..objects that will compress the organs resulting in lacerations and t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DECELERATION eg; shearing force tearing a vessel or organ from their attac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tor vehicle acc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ssa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ports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MAJOR SOURCES OF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SECONDARY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unt injury resulting in fractures to the ribs or pelvis can result in lacerations to the other org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….The physiologic catalyst causing the severity of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 = MASS X 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GREATER THE MASS AND/OR THE GREATER THE ACCELERATION, THE GREAT THE POTENTIAL FOR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tered mental status: alcohol, drugs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ons: cell phones, searching for a channel or reaching for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ulty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RECIPITATING EVENTS FOR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Fatality at the sc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Vehicle type an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Rollov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atient</a:t>
            </a:r>
            <a:r>
              <a:rPr b="0" lang="ja-JP" sz="28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 location within the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xtent of intrusion into the passenger com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xtent of damage to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teering wheel defor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ea tbelt used? What t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irbags deploy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HISTORIC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Unrestrained victims have higher risk of injury than restrained….Seat belts save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teering wheel deformity predictor on abdominal injury to front seat passengers but not the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destrians oftentimes get a triad of cranial, abdominal and leg injury….If you see one of them, suspect the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HISTORIC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Occurs from rib frac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Upward trauma such as handle bar, b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st common intra abdominal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acerations may tear through the spleen or get walled off by the outer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LEN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PLENIC LACERATION: SUBCAPSULAR HEM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LEN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556236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en with deceleration or shearing mechanism can result in vascular t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Kidneys are retroperitoneal and susceptible to direct blun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KIDNEY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elvis is heavily vascular and difficult to clot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eads to significant bleeding which is worsened by the unstable bones breaking up cl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so may indicate bladder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reatment is external fixation of the pelv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tered Mental Status: alcohol, drugs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ons: cell phones, searching for a channel or reaching to grab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ulty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RECIPITATING EVENTS FOR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ELVIC F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EXTERNAL FIX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7913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EXTERNAL FIX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095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NOTHER REASON NOT TO DRINK AND DR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ADDER RUP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373392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 startAt="7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cd1b9"/>
                </a:solidFill>
                <a:latin typeface="Franklin Gothic Medium"/>
              </a:rPr>
              <a:t>RAPID 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Do no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BCDE: airway, breathing, circulation, deficit (neuro), exposure (und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Don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 wast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1"/>
          <a:stretch/>
        </p:blipFill>
        <p:spPr>
          <a:xfrm>
            <a:off x="2203560" y="1781280"/>
            <a:ext cx="4635360" cy="3555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</a:rPr>
              <a:t>USE YOUR EYES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EY WILL GIVE YOU ALMOST ALL THE INFORMATION YOU NEED IN ORDER TO DETERMINE HOW THE VICTIM IS D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GATHER INFORMATION AS YOU APPROACH THE VICTIM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y signs of trau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ee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alking, grimacing or yell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reathing fast? Sl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s the person mov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CAN THEY BREA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re they talking normally?  If so there is no airway ob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hoking or facial bleeding? Check for an airway ob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igh pitched noises (stridor): Has airway swelling or partial obstruction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BL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Look over the whole body and make sure there is no significant blood lo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549360" y="2921040"/>
            <a:ext cx="3556080" cy="2286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889600" y="2473200"/>
            <a:ext cx="2832120" cy="2870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3"/>
          <a:stretch/>
        </p:blipFill>
        <p:spPr>
          <a:xfrm>
            <a:off x="3151080" y="39085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COLLISION FACTORS ASSOCIATED WITH HIGHER RATES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ront or near side motor vehicle c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rupt 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rushing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ntrusion greater than 15 cm or six in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ANY NEUROLOGIC CHANG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swering questions and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Normal? Mentation is n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Confused or obtunded? Lack of oxygen? Blood l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ving all the extrem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Yes? No par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No? Possible spinal injury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DOMINAL PAIN AND TENDERNESS MAKE ABDOMINAL INJURIES MORE 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EXAM HOWEVER IS NOT VERY SEN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CCURACY OF ABDOMINAL TENDERNESS AND PAIN IS ONLY 55-65 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ATBELT SIGN  OR ECCHYMOSIS OVER THE ABDOMINAL WALL CORRELATES WITH ABDOMINAL INJURIES IN ONE-THIRD OF THE CASE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ATBELT 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2388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NG OR CLOSED HEAD INJURIES MAY PREVENT PATIENTS FROM HAVING FINDING ON THE ABDOMINAL EX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RADYCARDIA IS SOMETIMES SEEN WITH ABDOMINAL INJURIES DUE TO AN ABDOMINAL VAGAL RESPONSE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28480" y="1706400"/>
            <a:ext cx="8164800" cy="4572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LOOK AT THE WHOLE 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is easy to fixate on one part and not see the 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CONGRATULATION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YOU JUST COMPLETED THE PRIMARY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7086600" y="2895480"/>
            <a:ext cx="1752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ccd1b9"/>
                </a:solidFill>
                <a:latin typeface="Franklin Gothic Medium"/>
              </a:rPr>
              <a:t>RECOGNIZING RESPIRATORY DIST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IRWAY ASSESS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RESPIRATORY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Conditions that result in a compromise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4572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Arial"/>
              <a:buAutoNum type="arabicPeriod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ility to get oxygen (inh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4572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Arial"/>
              <a:buAutoNum type="arabicPeriod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ility to get rid of carbon dioxide (exh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5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RESPIRATORY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2080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ONDITIONS THAT RESULT IN A COMPROMISE IN BREA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Ob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Facial trauma and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h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Ches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ontus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Rib fra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Pneumo/hemo/tension: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RISK FACTORS FOR OCCUPANTS IN MVC</a:t>
            </a:r>
            <a:r>
              <a:rPr b="0" lang="ja-JP" sz="36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ge greater than or equal to six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ront seat occup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Not wearing a seat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TRAUMA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hange in brea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igns of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BREATHING CHA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Arial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Arial"/>
              </a:rPr>
              <a:t>Can result in an increase in respiratory rate because the person is trying to compensate for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Arial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Arial"/>
              </a:rPr>
              <a:t>Or a decrease in respiratory drive and the breathing slows down because the person is tired or losing consciousness</a:t>
            </a:r>
            <a:r>
              <a:rPr b="0" lang="en-US" sz="20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Franklin Gothic Medium"/>
              </a:rPr>
              <a:t>SIGNS OF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</a:rPr>
              <a:t>Airway obstruct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Facial or neck swelling or blee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</a:rPr>
              <a:t>Chest wall injur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Bruising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Stabb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GS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Blee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repitus: air in the skin that leaks out from the lungs.  Feels crunch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Georgia"/>
              </a:rPr>
              <a:t>AIRWAY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</a:rPr>
              <a:t>DETERMINE IF AND THE EXTENT OF THE BREATHING ISS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I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Bleeding but able to breath and manage the secre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Bruise but no airway com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ODERATE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Trauma that affects breathing but no signs of di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EVERE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compromise and di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F YOU DON’T ACT THEY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MAY</a:t>
            </a:r>
            <a:r>
              <a:rPr b="1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</a:rPr>
              <a:t>MINOR AND MODERATE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Victim should be able to breath on their own without significant difficul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ey should have a normal neurologic ex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it the person up if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ontrol the bleeding if any</a:t>
            </a: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34949"/>
                </a:solidFill>
                <a:latin typeface="Georgia"/>
              </a:rPr>
              <a:t>SEVERE DI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DO SOMETHING OR THEY MAY D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558720" y="2495520"/>
            <a:ext cx="74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KING T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NEEDLE TRACHEOS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NEEDLE THORACOS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488880" y="1263600"/>
            <a:ext cx="63248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 rot="21540000">
            <a:off x="1295280" y="2554200"/>
            <a:ext cx="67406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IRWAY PROCED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KING TU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301680" y="1625760"/>
            <a:ext cx="3187800" cy="2552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5954760" y="3511440"/>
            <a:ext cx="3022560" cy="267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23:12:33Z</dcterms:created>
  <dc:creator>GHPROS</dc:creator>
  <dc:description/>
  <dc:language>en-US</dc:language>
  <cp:lastModifiedBy>Windows User</cp:lastModifiedBy>
  <dcterms:modified xsi:type="dcterms:W3CDTF">2018-01-18T14:47:19Z</dcterms:modified>
  <cp:revision>70</cp:revision>
  <dc:subject/>
  <dc:title>BLUNT THORACIC AND ABDOMINAL TRAUMA</dc:title>
</cp:coreProperties>
</file>